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3C0-081C-41FB-8013-998405F5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080-75D0-4A3E-A04C-F3CEA0E6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BEB-F8FA-48E2-AF48-1B1DDD45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00F-0CA4-45A2-BEF4-F397DE0E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21AF-E70B-40DE-A09D-62D3891D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131-9DB8-436A-8A04-3AF31FF1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D56E-B369-49FB-9218-F570505C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4640-0655-49CA-A5F8-4641D63E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A22-4671-4B4E-9D7C-AEDCAA20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D47B-0CE6-4F7C-A333-BCB8ED9B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9BA6-7E99-4FE0-8978-408E37D4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1381-C22F-4F43-9077-EB90C300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B229-2081-45E1-ADE2-963ED3934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731918&amp;memlevel=C&amp;a=c&amp;q=grass&amp;s=1&amp;e=30&amp;show=&amp;c=&amp;cid=&amp;findincat=&amp;g=&amp;cc=&amp;page=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wede1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971800"/>
            <a:ext cx="3962160" cy="32288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9"/>
          <p:cNvGrpSpPr/>
          <p:nvPr/>
        </p:nvGrpSpPr>
        <p:grpSpPr>
          <a:xfrm>
            <a:off x="6553080" y="1343160"/>
            <a:ext cx="1968480" cy="3962160"/>
            <a:chOff x="6553080" y="1343160"/>
            <a:chExt cx="1968480" cy="3962160"/>
          </a:xfrm>
        </p:grpSpPr>
        <p:pic>
          <p:nvPicPr>
            <p:cNvPr id="43" name="Picture 15" descr="tclef106[1]"/>
            <p:cNvPicPr/>
            <p:nvPr/>
          </p:nvPicPr>
          <p:blipFill>
            <a:blip r:embed="rId3"/>
            <a:stretch/>
          </p:blipFill>
          <p:spPr>
            <a:xfrm>
              <a:off x="6553080" y="1876320"/>
              <a:ext cx="1968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16" descr="j0282737"/>
            <p:cNvPicPr/>
            <p:nvPr/>
          </p:nvPicPr>
          <p:blipFill>
            <a:blip r:embed="rId4"/>
            <a:stretch/>
          </p:blipFill>
          <p:spPr>
            <a:xfrm>
              <a:off x="6956280" y="172404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7" descr="j0237940"/>
            <p:cNvPicPr/>
            <p:nvPr/>
          </p:nvPicPr>
          <p:blipFill>
            <a:blip r:embed="rId5"/>
            <a:stretch/>
          </p:blipFill>
          <p:spPr>
            <a:xfrm>
              <a:off x="7184880" y="1343160"/>
              <a:ext cx="1049400" cy="74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Text Box 20"/>
          <p:cNvSpPr/>
          <p:nvPr/>
        </p:nvSpPr>
        <p:spPr>
          <a:xfrm>
            <a:off x="160920" y="838080"/>
            <a:ext cx="655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Once upon a time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lived a very evil k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His name w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King Treble Cle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533960" y="304920"/>
            <a:ext cx="65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ester"/>
              </a:rPr>
              <a:t>………</a:t>
            </a:r>
            <a:r>
              <a:rPr b="0" lang="en-US" sz="2400" spc="-1" strike="noStrike">
                <a:solidFill>
                  <a:srgbClr val="000000"/>
                </a:solidFill>
                <a:latin typeface="Jester"/>
              </a:rPr>
              <a:t>..And everyone lived happily ever after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32"/>
          <p:cNvGrpSpPr/>
          <p:nvPr/>
        </p:nvGrpSpPr>
        <p:grpSpPr>
          <a:xfrm>
            <a:off x="762120" y="838080"/>
            <a:ext cx="7924320" cy="5903640"/>
            <a:chOff x="762120" y="838080"/>
            <a:chExt cx="7924320" cy="5903640"/>
          </a:xfrm>
        </p:grpSpPr>
        <p:pic>
          <p:nvPicPr>
            <p:cNvPr id="217" name="Picture 5" descr="a_rmuhvz[1]"/>
            <p:cNvPicPr/>
            <p:nvPr/>
          </p:nvPicPr>
          <p:blipFill>
            <a:blip r:embed="rId1"/>
            <a:stretch/>
          </p:blipFill>
          <p:spPr>
            <a:xfrm>
              <a:off x="762120" y="838080"/>
              <a:ext cx="7924320" cy="59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Line 6"/>
            <p:cNvSpPr/>
            <p:nvPr/>
          </p:nvSpPr>
          <p:spPr>
            <a:xfrm>
              <a:off x="1919160" y="3216960"/>
              <a:ext cx="658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7"/>
            <p:cNvSpPr/>
            <p:nvPr/>
          </p:nvSpPr>
          <p:spPr>
            <a:xfrm>
              <a:off x="1919160" y="3812040"/>
              <a:ext cx="6589080" cy="84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8"/>
            <p:cNvSpPr/>
            <p:nvPr/>
          </p:nvSpPr>
          <p:spPr>
            <a:xfrm>
              <a:off x="1919160" y="4576680"/>
              <a:ext cx="658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2008440" y="5256360"/>
              <a:ext cx="6500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2097720" y="5936400"/>
              <a:ext cx="641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16"/>
            <p:cNvGrpSpPr/>
            <p:nvPr/>
          </p:nvGrpSpPr>
          <p:grpSpPr>
            <a:xfrm>
              <a:off x="4768920" y="5256360"/>
              <a:ext cx="801000" cy="690120"/>
              <a:chOff x="4768920" y="5256360"/>
              <a:chExt cx="801000" cy="690120"/>
            </a:xfrm>
          </p:grpSpPr>
          <p:pic>
            <p:nvPicPr>
              <p:cNvPr id="224" name="Picture 17" descr="j0339150"/>
              <p:cNvPicPr/>
              <p:nvPr/>
            </p:nvPicPr>
            <p:blipFill>
              <a:blip r:embed="rId2"/>
              <a:stretch/>
            </p:blipFill>
            <p:spPr>
              <a:xfrm>
                <a:off x="4768920" y="5256360"/>
                <a:ext cx="801000" cy="69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Rectangle 18"/>
              <p:cNvSpPr/>
              <p:nvPr/>
            </p:nvSpPr>
            <p:spPr>
              <a:xfrm>
                <a:off x="4946760" y="5426280"/>
                <a:ext cx="356040" cy="33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19"/>
              <p:cNvSpPr/>
              <p:nvPr/>
            </p:nvSpPr>
            <p:spPr>
              <a:xfrm>
                <a:off x="4948560" y="535716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00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20"/>
            <p:cNvGrpSpPr/>
            <p:nvPr/>
          </p:nvGrpSpPr>
          <p:grpSpPr>
            <a:xfrm>
              <a:off x="5658840" y="4576680"/>
              <a:ext cx="801000" cy="690120"/>
              <a:chOff x="5658840" y="4576680"/>
              <a:chExt cx="801000" cy="690120"/>
            </a:xfrm>
          </p:grpSpPr>
          <p:pic>
            <p:nvPicPr>
              <p:cNvPr id="228" name="Picture 21" descr="j0339150"/>
              <p:cNvPicPr/>
              <p:nvPr/>
            </p:nvPicPr>
            <p:blipFill>
              <a:blip r:embed="rId3"/>
              <a:stretch/>
            </p:blipFill>
            <p:spPr>
              <a:xfrm>
                <a:off x="5658840" y="4576680"/>
                <a:ext cx="801000" cy="69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Rectangle 22"/>
              <p:cNvSpPr/>
              <p:nvPr/>
            </p:nvSpPr>
            <p:spPr>
              <a:xfrm>
                <a:off x="5836680" y="4746600"/>
                <a:ext cx="356040" cy="33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23"/>
              <p:cNvSpPr/>
              <p:nvPr/>
            </p:nvSpPr>
            <p:spPr>
              <a:xfrm>
                <a:off x="5838840" y="46774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24"/>
            <p:cNvGrpSpPr/>
            <p:nvPr/>
          </p:nvGrpSpPr>
          <p:grpSpPr>
            <a:xfrm>
              <a:off x="6460200" y="3886200"/>
              <a:ext cx="801000" cy="690120"/>
              <a:chOff x="6460200" y="3886200"/>
              <a:chExt cx="801000" cy="690120"/>
            </a:xfrm>
          </p:grpSpPr>
          <p:pic>
            <p:nvPicPr>
              <p:cNvPr id="232" name="Picture 25" descr="j0339150"/>
              <p:cNvPicPr/>
              <p:nvPr/>
            </p:nvPicPr>
            <p:blipFill>
              <a:blip r:embed="rId4"/>
              <a:stretch/>
            </p:blipFill>
            <p:spPr>
              <a:xfrm>
                <a:off x="6460200" y="3886200"/>
                <a:ext cx="801000" cy="69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Rectangle 26"/>
              <p:cNvSpPr/>
              <p:nvPr/>
            </p:nvSpPr>
            <p:spPr>
              <a:xfrm>
                <a:off x="6638040" y="4056120"/>
                <a:ext cx="356040" cy="33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27"/>
              <p:cNvSpPr/>
              <p:nvPr/>
            </p:nvSpPr>
            <p:spPr>
              <a:xfrm>
                <a:off x="6640200" y="39870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28"/>
            <p:cNvGrpSpPr/>
            <p:nvPr/>
          </p:nvGrpSpPr>
          <p:grpSpPr>
            <a:xfrm>
              <a:off x="7261920" y="3206520"/>
              <a:ext cx="801000" cy="690120"/>
              <a:chOff x="7261920" y="3206520"/>
              <a:chExt cx="801000" cy="690120"/>
            </a:xfrm>
          </p:grpSpPr>
          <p:pic>
            <p:nvPicPr>
              <p:cNvPr id="236" name="Picture 29" descr="j0339150"/>
              <p:cNvPicPr/>
              <p:nvPr/>
            </p:nvPicPr>
            <p:blipFill>
              <a:blip r:embed="rId5"/>
              <a:stretch/>
            </p:blipFill>
            <p:spPr>
              <a:xfrm>
                <a:off x="7261920" y="3206520"/>
                <a:ext cx="801000" cy="69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Rectangle 30"/>
              <p:cNvSpPr/>
              <p:nvPr/>
            </p:nvSpPr>
            <p:spPr>
              <a:xfrm>
                <a:off x="7439760" y="3376440"/>
                <a:ext cx="356040" cy="33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31"/>
              <p:cNvSpPr/>
              <p:nvPr/>
            </p:nvSpPr>
            <p:spPr>
              <a:xfrm>
                <a:off x="7441560" y="330732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Group 43"/>
          <p:cNvGrpSpPr/>
          <p:nvPr/>
        </p:nvGrpSpPr>
        <p:grpSpPr>
          <a:xfrm>
            <a:off x="2590920" y="5486400"/>
            <a:ext cx="838080" cy="685800"/>
            <a:chOff x="2590920" y="5486400"/>
            <a:chExt cx="838080" cy="685800"/>
          </a:xfrm>
        </p:grpSpPr>
        <p:sp>
          <p:nvSpPr>
            <p:cNvPr id="240" name="AutoShape 44"/>
            <p:cNvSpPr/>
            <p:nvPr/>
          </p:nvSpPr>
          <p:spPr>
            <a:xfrm>
              <a:off x="2590920" y="5486400"/>
              <a:ext cx="83808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45"/>
            <p:cNvSpPr/>
            <p:nvPr/>
          </p:nvSpPr>
          <p:spPr>
            <a:xfrm>
              <a:off x="2830320" y="56390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High Tower Text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46"/>
          <p:cNvGrpSpPr/>
          <p:nvPr/>
        </p:nvGrpSpPr>
        <p:grpSpPr>
          <a:xfrm>
            <a:off x="3200400" y="4800600"/>
            <a:ext cx="838080" cy="685800"/>
            <a:chOff x="3200400" y="4800600"/>
            <a:chExt cx="838080" cy="685800"/>
          </a:xfrm>
        </p:grpSpPr>
        <p:sp>
          <p:nvSpPr>
            <p:cNvPr id="243" name="AutoShape 47"/>
            <p:cNvSpPr/>
            <p:nvPr/>
          </p:nvSpPr>
          <p:spPr>
            <a:xfrm>
              <a:off x="3200400" y="4800600"/>
              <a:ext cx="83808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8"/>
            <p:cNvSpPr/>
            <p:nvPr/>
          </p:nvSpPr>
          <p:spPr>
            <a:xfrm>
              <a:off x="3442320" y="495288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High Tower Text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49"/>
          <p:cNvGrpSpPr/>
          <p:nvPr/>
        </p:nvGrpSpPr>
        <p:grpSpPr>
          <a:xfrm>
            <a:off x="3809880" y="4191120"/>
            <a:ext cx="838440" cy="685800"/>
            <a:chOff x="3809880" y="4191120"/>
            <a:chExt cx="838440" cy="685800"/>
          </a:xfrm>
        </p:grpSpPr>
        <p:sp>
          <p:nvSpPr>
            <p:cNvPr id="246" name="AutoShape 50"/>
            <p:cNvSpPr/>
            <p:nvPr/>
          </p:nvSpPr>
          <p:spPr>
            <a:xfrm>
              <a:off x="3809880" y="4191120"/>
              <a:ext cx="83844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1"/>
            <p:cNvSpPr/>
            <p:nvPr/>
          </p:nvSpPr>
          <p:spPr>
            <a:xfrm>
              <a:off x="4035960" y="43434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High Tower Text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52"/>
          <p:cNvGrpSpPr/>
          <p:nvPr/>
        </p:nvGrpSpPr>
        <p:grpSpPr>
          <a:xfrm>
            <a:off x="4495680" y="3505320"/>
            <a:ext cx="838440" cy="685800"/>
            <a:chOff x="4495680" y="3505320"/>
            <a:chExt cx="838440" cy="685800"/>
          </a:xfrm>
        </p:grpSpPr>
        <p:sp>
          <p:nvSpPr>
            <p:cNvPr id="249" name="AutoShape 53"/>
            <p:cNvSpPr/>
            <p:nvPr/>
          </p:nvSpPr>
          <p:spPr>
            <a:xfrm>
              <a:off x="4495680" y="3505320"/>
              <a:ext cx="83844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54"/>
            <p:cNvSpPr/>
            <p:nvPr/>
          </p:nvSpPr>
          <p:spPr>
            <a:xfrm>
              <a:off x="4736160" y="36579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High Tower Text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55"/>
          <p:cNvGrpSpPr/>
          <p:nvPr/>
        </p:nvGrpSpPr>
        <p:grpSpPr>
          <a:xfrm>
            <a:off x="5181480" y="2819520"/>
            <a:ext cx="838080" cy="685800"/>
            <a:chOff x="5181480" y="2819520"/>
            <a:chExt cx="838080" cy="685800"/>
          </a:xfrm>
        </p:grpSpPr>
        <p:sp>
          <p:nvSpPr>
            <p:cNvPr id="252" name="AutoShape 56"/>
            <p:cNvSpPr/>
            <p:nvPr/>
          </p:nvSpPr>
          <p:spPr>
            <a:xfrm>
              <a:off x="5181480" y="2819520"/>
              <a:ext cx="83808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57"/>
            <p:cNvSpPr/>
            <p:nvPr/>
          </p:nvSpPr>
          <p:spPr>
            <a:xfrm>
              <a:off x="5413680" y="29718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High Tower Text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Picture 63" descr="tclef106[1]"/>
          <p:cNvPicPr/>
          <p:nvPr/>
        </p:nvPicPr>
        <p:blipFill>
          <a:blip r:embed="rId6"/>
          <a:stretch/>
        </p:blipFill>
        <p:spPr>
          <a:xfrm>
            <a:off x="990720" y="2743200"/>
            <a:ext cx="196848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1638360" y="2666880"/>
          <a:ext cx="1012680" cy="113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38360" y="2666880"/>
                    <a:ext cx="10126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Picture 65" descr="j0237940"/>
          <p:cNvPicPr/>
          <p:nvPr/>
        </p:nvPicPr>
        <p:blipFill>
          <a:blip r:embed="rId9"/>
          <a:stretch/>
        </p:blipFill>
        <p:spPr>
          <a:xfrm>
            <a:off x="1622520" y="2133720"/>
            <a:ext cx="10494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4"/>
          <p:cNvSpPr txBox="1"/>
          <p:nvPr/>
        </p:nvSpPr>
        <p:spPr>
          <a:xfrm>
            <a:off x="1371600" y="2133720"/>
            <a:ext cx="6324480" cy="27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END!!!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777040" y="766800"/>
            <a:ext cx="65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g Treble Clef had a subject living on each line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names were E G B D and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a_rmuhvz[1]"/>
          <p:cNvPicPr/>
          <p:nvPr/>
        </p:nvPicPr>
        <p:blipFill>
          <a:blip r:embed="rId1"/>
          <a:stretch/>
        </p:blipFill>
        <p:spPr>
          <a:xfrm>
            <a:off x="152280" y="1447920"/>
            <a:ext cx="6782040" cy="5294160"/>
          </a:xfrm>
          <a:prstGeom prst="rect">
            <a:avLst/>
          </a:prstGeom>
          <a:ln w="0">
            <a:noFill/>
          </a:ln>
        </p:spPr>
      </p:pic>
      <p:sp>
        <p:nvSpPr>
          <p:cNvPr id="50" name="Line 8"/>
          <p:cNvSpPr/>
          <p:nvPr/>
        </p:nvSpPr>
        <p:spPr>
          <a:xfrm>
            <a:off x="2362320" y="3581280"/>
            <a:ext cx="4419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2362320" y="4191120"/>
            <a:ext cx="4419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>
            <a:off x="2362320" y="4800600"/>
            <a:ext cx="4419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362320" y="5410080"/>
            <a:ext cx="4419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2362320" y="6019920"/>
            <a:ext cx="4419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8"/>
          <p:cNvGrpSpPr/>
          <p:nvPr/>
        </p:nvGrpSpPr>
        <p:grpSpPr>
          <a:xfrm>
            <a:off x="1143000" y="2819520"/>
            <a:ext cx="1968480" cy="3961800"/>
            <a:chOff x="1143000" y="2819520"/>
            <a:chExt cx="1968480" cy="3961800"/>
          </a:xfrm>
        </p:grpSpPr>
        <p:pic>
          <p:nvPicPr>
            <p:cNvPr id="56" name="Picture 14" descr="tclef106[1]"/>
            <p:cNvPicPr/>
            <p:nvPr/>
          </p:nvPicPr>
          <p:blipFill>
            <a:blip r:embed="rId2"/>
            <a:stretch/>
          </p:blipFill>
          <p:spPr>
            <a:xfrm>
              <a:off x="1143000" y="3352680"/>
              <a:ext cx="1968480" cy="34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5" descr="j0282737"/>
            <p:cNvPicPr/>
            <p:nvPr/>
          </p:nvPicPr>
          <p:blipFill>
            <a:blip r:embed="rId3"/>
            <a:stretch/>
          </p:blipFill>
          <p:spPr>
            <a:xfrm flipH="1">
              <a:off x="1523880" y="3200400"/>
              <a:ext cx="1523880" cy="13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6" descr="j0237940"/>
            <p:cNvPicPr/>
            <p:nvPr/>
          </p:nvPicPr>
          <p:blipFill>
            <a:blip r:embed="rId4"/>
            <a:stretch/>
          </p:blipFill>
          <p:spPr>
            <a:xfrm>
              <a:off x="1774800" y="2819520"/>
              <a:ext cx="1049400" cy="74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Text Box 17"/>
          <p:cNvSpPr/>
          <p:nvPr/>
        </p:nvSpPr>
        <p:spPr>
          <a:xfrm>
            <a:off x="53280" y="66600"/>
            <a:ext cx="62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ester"/>
              </a:rPr>
              <a:t>King Treble Clef ruled the land called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ester"/>
              </a:rPr>
              <a:t>It was a land of 5 lines and 4 sp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2819520" y="5638680"/>
            <a:ext cx="83808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3058920" y="57913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3505320" y="5029200"/>
            <a:ext cx="83808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3747240" y="51814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8"/>
          <p:cNvSpPr/>
          <p:nvPr/>
        </p:nvSpPr>
        <p:spPr>
          <a:xfrm>
            <a:off x="4267080" y="4419720"/>
            <a:ext cx="83844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4493160" y="4572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0"/>
          <p:cNvSpPr/>
          <p:nvPr/>
        </p:nvSpPr>
        <p:spPr>
          <a:xfrm>
            <a:off x="4952880" y="3809880"/>
            <a:ext cx="83844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5193360" y="39625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2"/>
          <p:cNvSpPr/>
          <p:nvPr/>
        </p:nvSpPr>
        <p:spPr>
          <a:xfrm>
            <a:off x="5715000" y="3200400"/>
            <a:ext cx="83808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5947200" y="3352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288440" y="282600"/>
            <a:ext cx="643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bjects of the Staff land were very unhappy be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ng Treble Clef was so mean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 wouldn’t even let them leave their line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, E G B D and F had to stay put on their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a_rmuhvz[1]"/>
          <p:cNvPicPr/>
          <p:nvPr/>
        </p:nvPicPr>
        <p:blipFill>
          <a:blip r:embed="rId1"/>
          <a:stretch/>
        </p:blipFill>
        <p:spPr>
          <a:xfrm>
            <a:off x="1219320" y="1447920"/>
            <a:ext cx="6781680" cy="529416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3429000" y="3581280"/>
            <a:ext cx="4419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3429000" y="4191120"/>
            <a:ext cx="4419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3429000" y="4800600"/>
            <a:ext cx="4419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3429000" y="5410080"/>
            <a:ext cx="4419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3429000" y="6019920"/>
            <a:ext cx="4419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1"/>
          <p:cNvGrpSpPr/>
          <p:nvPr/>
        </p:nvGrpSpPr>
        <p:grpSpPr>
          <a:xfrm>
            <a:off x="2209680" y="2819520"/>
            <a:ext cx="1968480" cy="3961800"/>
            <a:chOff x="2209680" y="2819520"/>
            <a:chExt cx="1968480" cy="3961800"/>
          </a:xfrm>
        </p:grpSpPr>
        <p:pic>
          <p:nvPicPr>
            <p:cNvPr id="79" name="Picture 12" descr="tclef106[1]"/>
            <p:cNvPicPr/>
            <p:nvPr/>
          </p:nvPicPr>
          <p:blipFill>
            <a:blip r:embed="rId2"/>
            <a:stretch/>
          </p:blipFill>
          <p:spPr>
            <a:xfrm>
              <a:off x="2209680" y="3352680"/>
              <a:ext cx="1968480" cy="34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3" descr="j0282737"/>
            <p:cNvPicPr/>
            <p:nvPr/>
          </p:nvPicPr>
          <p:blipFill>
            <a:blip r:embed="rId3"/>
            <a:stretch/>
          </p:blipFill>
          <p:spPr>
            <a:xfrm flipH="1">
              <a:off x="2590560" y="3200400"/>
              <a:ext cx="1523880" cy="13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4" descr="j0237940"/>
            <p:cNvPicPr/>
            <p:nvPr/>
          </p:nvPicPr>
          <p:blipFill>
            <a:blip r:embed="rId4"/>
            <a:stretch/>
          </p:blipFill>
          <p:spPr>
            <a:xfrm>
              <a:off x="2841480" y="2819520"/>
              <a:ext cx="1049400" cy="74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AutoShape 15"/>
          <p:cNvSpPr/>
          <p:nvPr/>
        </p:nvSpPr>
        <p:spPr>
          <a:xfrm>
            <a:off x="3886200" y="5638680"/>
            <a:ext cx="83808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4125600" y="57913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7"/>
          <p:cNvSpPr/>
          <p:nvPr/>
        </p:nvSpPr>
        <p:spPr>
          <a:xfrm>
            <a:off x="4572000" y="5029200"/>
            <a:ext cx="83808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4813920" y="51814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9"/>
          <p:cNvSpPr/>
          <p:nvPr/>
        </p:nvSpPr>
        <p:spPr>
          <a:xfrm>
            <a:off x="5334120" y="4419720"/>
            <a:ext cx="83808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5560200" y="4572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1"/>
          <p:cNvSpPr/>
          <p:nvPr/>
        </p:nvSpPr>
        <p:spPr>
          <a:xfrm>
            <a:off x="6019920" y="3809880"/>
            <a:ext cx="83808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6260400" y="39625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3"/>
          <p:cNvSpPr/>
          <p:nvPr/>
        </p:nvSpPr>
        <p:spPr>
          <a:xfrm>
            <a:off x="6781680" y="3200400"/>
            <a:ext cx="83844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7013880" y="3352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066680" y="609480"/>
            <a:ext cx="716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hen one day, King Treble Clef decided to change his image!!!  He wanted to be nice so he let E G B D and F leave their lines and he built them some stor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505320" y="3735360"/>
          <a:ext cx="1447560" cy="28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735360"/>
                    <a:ext cx="1447560" cy="28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948120" y="3797280"/>
          <a:ext cx="87624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8120" y="3797280"/>
                    <a:ext cx="8762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9" descr="j0237940"/>
          <p:cNvPicPr/>
          <p:nvPr/>
        </p:nvPicPr>
        <p:blipFill>
          <a:blip r:embed="rId5"/>
          <a:stretch/>
        </p:blipFill>
        <p:spPr>
          <a:xfrm>
            <a:off x="4002120" y="3429000"/>
            <a:ext cx="7556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6" descr="a_rmuhvz[1]"/>
          <p:cNvPicPr/>
          <p:nvPr/>
        </p:nvPicPr>
        <p:blipFill>
          <a:blip r:embed="rId1"/>
          <a:stretch/>
        </p:blipFill>
        <p:spPr>
          <a:xfrm>
            <a:off x="1219320" y="1447920"/>
            <a:ext cx="6781680" cy="5294160"/>
          </a:xfrm>
          <a:prstGeom prst="rect">
            <a:avLst/>
          </a:prstGeom>
          <a:ln w="0">
            <a:noFill/>
          </a:ln>
        </p:spPr>
      </p:pic>
      <p:sp>
        <p:nvSpPr>
          <p:cNvPr id="100" name="Line 11"/>
          <p:cNvSpPr/>
          <p:nvPr/>
        </p:nvSpPr>
        <p:spPr>
          <a:xfrm>
            <a:off x="2209680" y="358128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2209680" y="4114800"/>
            <a:ext cx="563904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2209680" y="480060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2286000" y="5410080"/>
            <a:ext cx="556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>
            <a:off x="2362320" y="6019920"/>
            <a:ext cx="5486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2296800" y="57913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High Tower Text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2985120" y="51814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High Tower Text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4431600" y="39625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High Tower Text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5185080" y="3352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High Tower Text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7"/>
          <p:cNvSpPr/>
          <p:nvPr/>
        </p:nvSpPr>
        <p:spPr>
          <a:xfrm>
            <a:off x="3807360" y="4572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High Tower Text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380160" y="0"/>
            <a:ext cx="850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between where E G B D and F lived, he built some sto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ood store; Animal store; Candy store; and Everything st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f they couldn’t find what they wanted 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be in the Everything stor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7"/>
          <p:cNvGrpSpPr/>
          <p:nvPr/>
        </p:nvGrpSpPr>
        <p:grpSpPr>
          <a:xfrm>
            <a:off x="4648320" y="5410080"/>
            <a:ext cx="685800" cy="619200"/>
            <a:chOff x="4648320" y="5410080"/>
            <a:chExt cx="685800" cy="619200"/>
          </a:xfrm>
        </p:grpSpPr>
        <p:pic>
          <p:nvPicPr>
            <p:cNvPr id="112" name="Picture 31" descr="j0339150"/>
            <p:cNvPicPr/>
            <p:nvPr/>
          </p:nvPicPr>
          <p:blipFill>
            <a:blip r:embed="rId2"/>
            <a:stretch/>
          </p:blipFill>
          <p:spPr>
            <a:xfrm>
              <a:off x="4648320" y="541008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Rectangle 33"/>
            <p:cNvSpPr/>
            <p:nvPr/>
          </p:nvSpPr>
          <p:spPr>
            <a:xfrm>
              <a:off x="4800600" y="556272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2"/>
            <p:cNvSpPr/>
            <p:nvPr/>
          </p:nvSpPr>
          <p:spPr>
            <a:xfrm>
              <a:off x="4802760" y="5500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8"/>
          <p:cNvGrpSpPr/>
          <p:nvPr/>
        </p:nvGrpSpPr>
        <p:grpSpPr>
          <a:xfrm>
            <a:off x="5410080" y="4800600"/>
            <a:ext cx="685800" cy="619200"/>
            <a:chOff x="5410080" y="4800600"/>
            <a:chExt cx="685800" cy="619200"/>
          </a:xfrm>
        </p:grpSpPr>
        <p:pic>
          <p:nvPicPr>
            <p:cNvPr id="116" name="Picture 39" descr="j0339150"/>
            <p:cNvPicPr/>
            <p:nvPr/>
          </p:nvPicPr>
          <p:blipFill>
            <a:blip r:embed="rId3"/>
            <a:stretch/>
          </p:blipFill>
          <p:spPr>
            <a:xfrm>
              <a:off x="5410080" y="480060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Rectangle 40"/>
            <p:cNvSpPr/>
            <p:nvPr/>
          </p:nvSpPr>
          <p:spPr>
            <a:xfrm>
              <a:off x="5562360" y="49532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1"/>
            <p:cNvSpPr/>
            <p:nvPr/>
          </p:nvSpPr>
          <p:spPr>
            <a:xfrm>
              <a:off x="5564520" y="4891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42"/>
          <p:cNvGrpSpPr/>
          <p:nvPr/>
        </p:nvGrpSpPr>
        <p:grpSpPr>
          <a:xfrm>
            <a:off x="6095880" y="4181400"/>
            <a:ext cx="685800" cy="619200"/>
            <a:chOff x="6095880" y="4181400"/>
            <a:chExt cx="685800" cy="619200"/>
          </a:xfrm>
        </p:grpSpPr>
        <p:pic>
          <p:nvPicPr>
            <p:cNvPr id="120" name="Picture 43" descr="j0339150"/>
            <p:cNvPicPr/>
            <p:nvPr/>
          </p:nvPicPr>
          <p:blipFill>
            <a:blip r:embed="rId4"/>
            <a:stretch/>
          </p:blipFill>
          <p:spPr>
            <a:xfrm>
              <a:off x="6095880" y="418140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44"/>
            <p:cNvSpPr/>
            <p:nvPr/>
          </p:nvSpPr>
          <p:spPr>
            <a:xfrm>
              <a:off x="6248160" y="43340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5"/>
            <p:cNvSpPr/>
            <p:nvPr/>
          </p:nvSpPr>
          <p:spPr>
            <a:xfrm>
              <a:off x="6250320" y="4272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6"/>
          <p:cNvGrpSpPr/>
          <p:nvPr/>
        </p:nvGrpSpPr>
        <p:grpSpPr>
          <a:xfrm>
            <a:off x="6781680" y="3571920"/>
            <a:ext cx="685800" cy="619200"/>
            <a:chOff x="6781680" y="3571920"/>
            <a:chExt cx="685800" cy="619200"/>
          </a:xfrm>
        </p:grpSpPr>
        <p:pic>
          <p:nvPicPr>
            <p:cNvPr id="124" name="Picture 47" descr="j0339150"/>
            <p:cNvPicPr/>
            <p:nvPr/>
          </p:nvPicPr>
          <p:blipFill>
            <a:blip r:embed="rId5"/>
            <a:stretch/>
          </p:blipFill>
          <p:spPr>
            <a:xfrm>
              <a:off x="6781680" y="357192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48"/>
            <p:cNvSpPr/>
            <p:nvPr/>
          </p:nvSpPr>
          <p:spPr>
            <a:xfrm>
              <a:off x="6933960" y="372456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9"/>
            <p:cNvSpPr/>
            <p:nvPr/>
          </p:nvSpPr>
          <p:spPr>
            <a:xfrm>
              <a:off x="6935760" y="3662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0" y="55260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igh Tower Text"/>
              </a:rPr>
              <a:t>E G B D and F went shopping all day but got lost on their way home, so King Treble Clef thought up a saying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High Tower Text"/>
              </a:rPr>
              <a:t>Every Good Boy Does Fin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igh Tower Text"/>
              </a:rPr>
              <a:t>Can you help E G B D and F find their hom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a_rmuhvz[1]"/>
          <p:cNvPicPr/>
          <p:nvPr/>
        </p:nvPicPr>
        <p:blipFill>
          <a:blip r:embed="rId1"/>
          <a:stretch/>
        </p:blipFill>
        <p:spPr>
          <a:xfrm>
            <a:off x="1219320" y="1447920"/>
            <a:ext cx="6781680" cy="5294160"/>
          </a:xfrm>
          <a:prstGeom prst="rect">
            <a:avLst/>
          </a:prstGeom>
          <a:ln w="0">
            <a:noFill/>
          </a:ln>
        </p:spPr>
      </p:pic>
      <p:sp>
        <p:nvSpPr>
          <p:cNvPr id="130" name="Line 5"/>
          <p:cNvSpPr/>
          <p:nvPr/>
        </p:nvSpPr>
        <p:spPr>
          <a:xfrm>
            <a:off x="2209680" y="358128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2209680" y="4114800"/>
            <a:ext cx="563904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2209680" y="480060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286000" y="5410080"/>
            <a:ext cx="556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2362320" y="6019920"/>
            <a:ext cx="5486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5"/>
          <p:cNvGrpSpPr/>
          <p:nvPr/>
        </p:nvGrpSpPr>
        <p:grpSpPr>
          <a:xfrm>
            <a:off x="4648320" y="5410080"/>
            <a:ext cx="685800" cy="619200"/>
            <a:chOff x="4648320" y="5410080"/>
            <a:chExt cx="685800" cy="619200"/>
          </a:xfrm>
        </p:grpSpPr>
        <p:pic>
          <p:nvPicPr>
            <p:cNvPr id="136" name="Picture 16" descr="j0339150"/>
            <p:cNvPicPr/>
            <p:nvPr/>
          </p:nvPicPr>
          <p:blipFill>
            <a:blip r:embed="rId2"/>
            <a:stretch/>
          </p:blipFill>
          <p:spPr>
            <a:xfrm>
              <a:off x="4648320" y="541008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Rectangle 17"/>
            <p:cNvSpPr/>
            <p:nvPr/>
          </p:nvSpPr>
          <p:spPr>
            <a:xfrm>
              <a:off x="4800600" y="556272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8"/>
            <p:cNvSpPr/>
            <p:nvPr/>
          </p:nvSpPr>
          <p:spPr>
            <a:xfrm>
              <a:off x="4802760" y="5500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9"/>
          <p:cNvGrpSpPr/>
          <p:nvPr/>
        </p:nvGrpSpPr>
        <p:grpSpPr>
          <a:xfrm>
            <a:off x="5410080" y="4800600"/>
            <a:ext cx="685800" cy="619200"/>
            <a:chOff x="5410080" y="4800600"/>
            <a:chExt cx="685800" cy="619200"/>
          </a:xfrm>
        </p:grpSpPr>
        <p:pic>
          <p:nvPicPr>
            <p:cNvPr id="140" name="Picture 20" descr="j0339150"/>
            <p:cNvPicPr/>
            <p:nvPr/>
          </p:nvPicPr>
          <p:blipFill>
            <a:blip r:embed="rId3"/>
            <a:stretch/>
          </p:blipFill>
          <p:spPr>
            <a:xfrm>
              <a:off x="5410080" y="480060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21"/>
            <p:cNvSpPr/>
            <p:nvPr/>
          </p:nvSpPr>
          <p:spPr>
            <a:xfrm>
              <a:off x="5562360" y="49532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2"/>
            <p:cNvSpPr/>
            <p:nvPr/>
          </p:nvSpPr>
          <p:spPr>
            <a:xfrm>
              <a:off x="5564520" y="4891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23"/>
          <p:cNvGrpSpPr/>
          <p:nvPr/>
        </p:nvGrpSpPr>
        <p:grpSpPr>
          <a:xfrm>
            <a:off x="6095880" y="4181400"/>
            <a:ext cx="685800" cy="619200"/>
            <a:chOff x="6095880" y="4181400"/>
            <a:chExt cx="685800" cy="619200"/>
          </a:xfrm>
        </p:grpSpPr>
        <p:pic>
          <p:nvPicPr>
            <p:cNvPr id="144" name="Picture 24" descr="j0339150"/>
            <p:cNvPicPr/>
            <p:nvPr/>
          </p:nvPicPr>
          <p:blipFill>
            <a:blip r:embed="rId4"/>
            <a:stretch/>
          </p:blipFill>
          <p:spPr>
            <a:xfrm>
              <a:off x="6095880" y="418140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25"/>
            <p:cNvSpPr/>
            <p:nvPr/>
          </p:nvSpPr>
          <p:spPr>
            <a:xfrm>
              <a:off x="6248160" y="43340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6"/>
            <p:cNvSpPr/>
            <p:nvPr/>
          </p:nvSpPr>
          <p:spPr>
            <a:xfrm>
              <a:off x="6250320" y="4272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7"/>
          <p:cNvGrpSpPr/>
          <p:nvPr/>
        </p:nvGrpSpPr>
        <p:grpSpPr>
          <a:xfrm>
            <a:off x="6781680" y="3571920"/>
            <a:ext cx="685800" cy="619200"/>
            <a:chOff x="6781680" y="3571920"/>
            <a:chExt cx="685800" cy="619200"/>
          </a:xfrm>
        </p:grpSpPr>
        <p:pic>
          <p:nvPicPr>
            <p:cNvPr id="148" name="Picture 28" descr="j0339150"/>
            <p:cNvPicPr/>
            <p:nvPr/>
          </p:nvPicPr>
          <p:blipFill>
            <a:blip r:embed="rId5"/>
            <a:stretch/>
          </p:blipFill>
          <p:spPr>
            <a:xfrm>
              <a:off x="6781680" y="357192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29"/>
            <p:cNvSpPr/>
            <p:nvPr/>
          </p:nvSpPr>
          <p:spPr>
            <a:xfrm>
              <a:off x="6933960" y="372456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30"/>
            <p:cNvSpPr/>
            <p:nvPr/>
          </p:nvSpPr>
          <p:spPr>
            <a:xfrm>
              <a:off x="6935760" y="3662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45"/>
          <p:cNvGrpSpPr/>
          <p:nvPr/>
        </p:nvGrpSpPr>
        <p:grpSpPr>
          <a:xfrm>
            <a:off x="4114800" y="685800"/>
            <a:ext cx="838080" cy="685800"/>
            <a:chOff x="4114800" y="685800"/>
            <a:chExt cx="838080" cy="685800"/>
          </a:xfrm>
        </p:grpSpPr>
        <p:sp>
          <p:nvSpPr>
            <p:cNvPr id="152" name="AutoShape 31"/>
            <p:cNvSpPr/>
            <p:nvPr/>
          </p:nvSpPr>
          <p:spPr>
            <a:xfrm>
              <a:off x="4114800" y="685800"/>
              <a:ext cx="83808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32"/>
            <p:cNvSpPr/>
            <p:nvPr/>
          </p:nvSpPr>
          <p:spPr>
            <a:xfrm>
              <a:off x="4354200" y="8384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High Tower Text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44"/>
          <p:cNvGrpSpPr/>
          <p:nvPr/>
        </p:nvGrpSpPr>
        <p:grpSpPr>
          <a:xfrm>
            <a:off x="8001000" y="1828800"/>
            <a:ext cx="838080" cy="685800"/>
            <a:chOff x="8001000" y="1828800"/>
            <a:chExt cx="838080" cy="685800"/>
          </a:xfrm>
        </p:grpSpPr>
        <p:sp>
          <p:nvSpPr>
            <p:cNvPr id="155" name="AutoShape 33"/>
            <p:cNvSpPr/>
            <p:nvPr/>
          </p:nvSpPr>
          <p:spPr>
            <a:xfrm>
              <a:off x="8001000" y="1828800"/>
              <a:ext cx="83808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34"/>
            <p:cNvSpPr/>
            <p:nvPr/>
          </p:nvSpPr>
          <p:spPr>
            <a:xfrm>
              <a:off x="8242920" y="198108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High Tower Text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3"/>
          <p:cNvGrpSpPr/>
          <p:nvPr/>
        </p:nvGrpSpPr>
        <p:grpSpPr>
          <a:xfrm>
            <a:off x="152280" y="1981080"/>
            <a:ext cx="838440" cy="685800"/>
            <a:chOff x="152280" y="1981080"/>
            <a:chExt cx="838440" cy="685800"/>
          </a:xfrm>
        </p:grpSpPr>
        <p:sp>
          <p:nvSpPr>
            <p:cNvPr id="158" name="AutoShape 35"/>
            <p:cNvSpPr/>
            <p:nvPr/>
          </p:nvSpPr>
          <p:spPr>
            <a:xfrm>
              <a:off x="152280" y="1981080"/>
              <a:ext cx="83844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36"/>
            <p:cNvSpPr/>
            <p:nvPr/>
          </p:nvSpPr>
          <p:spPr>
            <a:xfrm>
              <a:off x="378360" y="213336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High Tower Text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2"/>
          <p:cNvGrpSpPr/>
          <p:nvPr/>
        </p:nvGrpSpPr>
        <p:grpSpPr>
          <a:xfrm>
            <a:off x="1905120" y="609480"/>
            <a:ext cx="838080" cy="685800"/>
            <a:chOff x="1905120" y="609480"/>
            <a:chExt cx="838080" cy="685800"/>
          </a:xfrm>
        </p:grpSpPr>
        <p:sp>
          <p:nvSpPr>
            <p:cNvPr id="161" name="AutoShape 37"/>
            <p:cNvSpPr/>
            <p:nvPr/>
          </p:nvSpPr>
          <p:spPr>
            <a:xfrm>
              <a:off x="1905120" y="609480"/>
              <a:ext cx="83808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38"/>
            <p:cNvSpPr/>
            <p:nvPr/>
          </p:nvSpPr>
          <p:spPr>
            <a:xfrm>
              <a:off x="2144880" y="76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High Tower Text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1"/>
          <p:cNvGrpSpPr/>
          <p:nvPr/>
        </p:nvGrpSpPr>
        <p:grpSpPr>
          <a:xfrm>
            <a:off x="6400800" y="609480"/>
            <a:ext cx="838080" cy="685800"/>
            <a:chOff x="6400800" y="609480"/>
            <a:chExt cx="838080" cy="685800"/>
          </a:xfrm>
        </p:grpSpPr>
        <p:sp>
          <p:nvSpPr>
            <p:cNvPr id="164" name="AutoShape 39"/>
            <p:cNvSpPr/>
            <p:nvPr/>
          </p:nvSpPr>
          <p:spPr>
            <a:xfrm>
              <a:off x="6400800" y="609480"/>
              <a:ext cx="83808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0"/>
            <p:cNvSpPr/>
            <p:nvPr/>
          </p:nvSpPr>
          <p:spPr>
            <a:xfrm>
              <a:off x="6633000" y="7617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High Tower Text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1248E-006 C 0.00694 0.0148 0.00868 0.02543 0.01805 0.03907 C 0.025 0.07027 0.0467 0.09593 0.06059 0.1209 C 0.06475 0.12806 0.06666 0.13823 0.07205 0.14355 C 0.07899 0.15049 0.08559 0.15881 0.09218 0.16667 C 0.10156 0.17776 0.09652 0.17638 0.10798 0.18632 C 0.16354 0.23347 0.22968 0.23625 0.29253 0.24179 C 0.31059 0.24619 0.32656 0.25173 0.34427 0.25798 C 0.35104 0.26075 0.36441 0.26792 0.36441 0.26815 C 0.39548 0.29797 0.36562 0.27185 0.38455 0.2841 C 0.39062 0.28826 0.4026 0.29727 0.4026 0.2975 C 0.42118 0.32409 0.39705 0.29265 0.4184 0.31022 C 0.44218 0.3301 0.41093 0.31322 0.43177 0.32339 C 0.43628 0.33333 0.44271 0.34189 0.44531 0.35298 C 0.44791 0.36454 0.44566 0.36038 0.45 0.36616 E">
                                      <p:cBhvr>
                                        <p:cTn id="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31 0.05964 C 0.02066 0.06541 0.02291 0.09015 0.02396 0.09685 C 0.02552 0.10725 0.02708 0.1061 0.02968 0.11719 C 0.03229 0.12829 0.0335 0.141 0.03732 0.15164 C 0.03941 0.15788 0.04323 0.1625 0.04479 0.16897 C 0.04705 0.17799 0.05052 0.1907 0.05451 0.19787 C 0.0559 0.20041 0.05833 0.20157 0.06007 0.20365 C 0.07777 0.22607 0.05538 0.19879 0.06961 0.22075 C 0.07118 0.22307 0.07361 0.22445 0.07517 0.22676 C 0.08264 0.23832 0.08784 0.25404 0.09618 0.26398 C 0.10225 0.27138 0.10972 0.276 0.11527 0.28432 C 0.1217 0.29426 0.12552 0.30004 0.1342 0.30443 C 0.15295 0.3257 0.17482 0.33934 0.19687 0.35067 C 0.20364 0.35413 0.21059 0.35922 0.21771 0.36222 C 0.22777 0.36615 0.23802 0.3687 0.24809 0.37355 C 0.25191 0.37563 0.25573 0.37748 0.25955 0.37933 C 0.26128 0.38026 0.26527 0.3821 0.26527 0.38234 C 0.27517 0.39228 0.28489 0.3999 0.29566 0.40823 C 0.30243 0.42418 0.29531 0.41169 0.30503 0.41978 C 0.30902 0.42302 0.31649 0.43134 0.31649 0.43157 C 0.31979 0.4466 0.32343 0.44174 0.32986 0.45423 C 0.33264 0.45977 0.3375 0.47156 0.3375 0.47179 E">
                                      <p:cBhvr>
                                        <p:cTn id="10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76 0.06265 C 0.01823 0.07605 0.02153 0.09131 0.02327 0.10518 C 0.025 0.11836 0.02761 0.14494 0.02761 0.14494 C 0.02691 0.17037 0.02674 0.19579 0.02552 0.22122 C 0.02466 0.23856 0.02084 0.2559 0.01702 0.27231 C 0.00886 0.30837 0.00747 0.33056 -0.00868 0.36292 C -0.01354 0.37286 -0.01406 0.38743 -0.02135 0.39413 C -0.03107 0.40291 -0.0408 0.41424 -0.04895 0.42534 C -0.05139 0.4288 -0.0526 0.43366 -0.05538 0.43666 C -0.07899 0.46325 -0.04791 0.41817 -0.07239 0.45076 C -0.08038 0.4614 -0.08767 0.47388 -0.09583 0.48475 C -0.09948 0.4896 -0.10069 0.497 -0.10434 0.50185 C -0.10642 0.50463 -0.12083 0.52358 -0.12569 0.53005 C -0.13802 0.54647 -0.12586 0.53005 -0.14045 0.55571 C -0.14479 0.56334 -0.1533 0.57837 -0.1533 0.57837 C -0.1559 0.58877 -0.15711 0.59732 -0.1618 0.60657 C -0.16892 0.63592 -0.16059 0.66366 -0.15538 0.69163 C -0.15937 0.70828 -0.15746 0.69718 -0.15746 0.72561 E">
                                      <p:cBhvr>
                                        <p:cTn id="1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55 0.06819 C 0.01233 0.08321 0.01302 0.09847 0.0158 0.1135 C 0.01754 0.13245 0.02032 0.14655 0.02431 0.16435 C 0.02622 0.1729 0.02865 0.18146 0.03073 0.19001 C 0.03143 0.19278 0.03282 0.19833 0.03282 0.19833 C 0.03143 0.25057 0.04063 0.2723 0.01806 0.30328 C 0.01146 0.32801 -0.00364 0.32455 -0.01823 0.33449 C -0.02048 0.3361 -0.02222 0.33865 -0.02448 0.34003 C -0.02864 0.34258 -0.03298 0.34396 -0.03732 0.34581 C -0.03941 0.34674 -0.04375 0.34859 -0.04375 0.34859 C -0.05034 0.36176 -0.05173 0.36685 -0.05642 0.37979 E">
                                      <p:cBhvr>
                                        <p:cTn id="1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0.07189 C 0.01164 0.10194 0.00955 0.08345 0.00677 0.13708 C 0.0066 0.14031 0.00573 0.1699 0.00261 0.17961 C -0.00173 0.19279 -0.01458 0.22237 -0.02083 0.23347 C -0.02708 0.24433 -0.03698 0.24734 -0.04427 0.25612 C -0.06458 0.28109 -0.08784 0.32085 -0.11441 0.33241 C -0.12743 0.3442 -0.14288 0.34951 -0.15694 0.35806 C -0.16076 0.36038 -0.16389 0.36431 -0.1677 0.36662 C -0.1908 0.38049 -0.21753 0.38372 -0.24218 0.38927 C -0.26111 0.39366 -0.29948 0.39759 -0.29948 0.39759 C -0.3158 0.40337 -0.33177 0.40684 -0.34843 0.40892 C -0.37152 0.41701 -0.39618 0.42187 -0.41875 0.43157 C -0.43889 0.4496 -0.46319 0.44429 -0.4868 0.44591 C -0.48889 0.44683 -0.49184 0.44614 -0.49323 0.44868 C -0.49583 0.45353 -0.49496 0.4607 -0.49739 0.46555 C -0.49878 0.46833 -0.50034 0.47133 -0.50173 0.47411 C -0.50173 0.47411 -0.50173 0.47041 -0.50173 0.46856 E">
                                      <p:cBhvr>
                                        <p:cTn id="22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664280" y="1027080"/>
            <a:ext cx="55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!!  Now, do you remember where the stores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a_rmuhvz[1]"/>
          <p:cNvPicPr/>
          <p:nvPr/>
        </p:nvPicPr>
        <p:blipFill>
          <a:blip r:embed="rId1"/>
          <a:stretch/>
        </p:blipFill>
        <p:spPr>
          <a:xfrm>
            <a:off x="1219320" y="1447920"/>
            <a:ext cx="6781680" cy="5294160"/>
          </a:xfrm>
          <a:prstGeom prst="rect">
            <a:avLst/>
          </a:prstGeom>
          <a:ln w="0">
            <a:noFill/>
          </a:ln>
        </p:spPr>
      </p:pic>
      <p:sp>
        <p:nvSpPr>
          <p:cNvPr id="169" name="Line 6"/>
          <p:cNvSpPr/>
          <p:nvPr/>
        </p:nvSpPr>
        <p:spPr>
          <a:xfrm>
            <a:off x="2209680" y="358128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2209680" y="4114800"/>
            <a:ext cx="563904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2209680" y="480060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2286000" y="5410080"/>
            <a:ext cx="556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2362320" y="6019920"/>
            <a:ext cx="5486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1"/>
          <p:cNvGrpSpPr/>
          <p:nvPr/>
        </p:nvGrpSpPr>
        <p:grpSpPr>
          <a:xfrm>
            <a:off x="5410080" y="228600"/>
            <a:ext cx="685800" cy="619200"/>
            <a:chOff x="5410080" y="228600"/>
            <a:chExt cx="685800" cy="619200"/>
          </a:xfrm>
        </p:grpSpPr>
        <p:pic>
          <p:nvPicPr>
            <p:cNvPr id="175" name="Picture 12" descr="j0339150"/>
            <p:cNvPicPr/>
            <p:nvPr/>
          </p:nvPicPr>
          <p:blipFill>
            <a:blip r:embed="rId2"/>
            <a:stretch/>
          </p:blipFill>
          <p:spPr>
            <a:xfrm>
              <a:off x="5410080" y="22860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Rectangle 13"/>
            <p:cNvSpPr/>
            <p:nvPr/>
          </p:nvSpPr>
          <p:spPr>
            <a:xfrm>
              <a:off x="5562360" y="3812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564520" y="31932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5"/>
          <p:cNvGrpSpPr/>
          <p:nvPr/>
        </p:nvGrpSpPr>
        <p:grpSpPr>
          <a:xfrm>
            <a:off x="304920" y="1905120"/>
            <a:ext cx="685800" cy="618840"/>
            <a:chOff x="304920" y="1905120"/>
            <a:chExt cx="685800" cy="618840"/>
          </a:xfrm>
        </p:grpSpPr>
        <p:pic>
          <p:nvPicPr>
            <p:cNvPr id="179" name="Picture 16" descr="j0339150"/>
            <p:cNvPicPr/>
            <p:nvPr/>
          </p:nvPicPr>
          <p:blipFill>
            <a:blip r:embed="rId3"/>
            <a:stretch/>
          </p:blipFill>
          <p:spPr>
            <a:xfrm>
              <a:off x="304920" y="1905120"/>
              <a:ext cx="68580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Rectangle 17"/>
            <p:cNvSpPr/>
            <p:nvPr/>
          </p:nvSpPr>
          <p:spPr>
            <a:xfrm>
              <a:off x="457200" y="2057400"/>
              <a:ext cx="304920" cy="304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8"/>
            <p:cNvSpPr/>
            <p:nvPr/>
          </p:nvSpPr>
          <p:spPr>
            <a:xfrm>
              <a:off x="459360" y="1995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9"/>
          <p:cNvGrpSpPr/>
          <p:nvPr/>
        </p:nvGrpSpPr>
        <p:grpSpPr>
          <a:xfrm>
            <a:off x="8153280" y="1219320"/>
            <a:ext cx="685800" cy="618840"/>
            <a:chOff x="8153280" y="1219320"/>
            <a:chExt cx="685800" cy="618840"/>
          </a:xfrm>
        </p:grpSpPr>
        <p:pic>
          <p:nvPicPr>
            <p:cNvPr id="183" name="Picture 20" descr="j0339150"/>
            <p:cNvPicPr/>
            <p:nvPr/>
          </p:nvPicPr>
          <p:blipFill>
            <a:blip r:embed="rId4"/>
            <a:stretch/>
          </p:blipFill>
          <p:spPr>
            <a:xfrm>
              <a:off x="8153280" y="1219320"/>
              <a:ext cx="68580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Rectangle 21"/>
            <p:cNvSpPr/>
            <p:nvPr/>
          </p:nvSpPr>
          <p:spPr>
            <a:xfrm>
              <a:off x="8305560" y="1371600"/>
              <a:ext cx="304920" cy="304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8307720" y="1309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3"/>
          <p:cNvGrpSpPr/>
          <p:nvPr/>
        </p:nvGrpSpPr>
        <p:grpSpPr>
          <a:xfrm>
            <a:off x="1828800" y="228600"/>
            <a:ext cx="685800" cy="619200"/>
            <a:chOff x="1828800" y="228600"/>
            <a:chExt cx="685800" cy="619200"/>
          </a:xfrm>
        </p:grpSpPr>
        <p:pic>
          <p:nvPicPr>
            <p:cNvPr id="187" name="Picture 24" descr="j0339150"/>
            <p:cNvPicPr/>
            <p:nvPr/>
          </p:nvPicPr>
          <p:blipFill>
            <a:blip r:embed="rId5"/>
            <a:stretch/>
          </p:blipFill>
          <p:spPr>
            <a:xfrm>
              <a:off x="1828800" y="22860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Rectangle 25"/>
            <p:cNvSpPr/>
            <p:nvPr/>
          </p:nvSpPr>
          <p:spPr>
            <a:xfrm>
              <a:off x="1981080" y="3812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6"/>
            <p:cNvSpPr/>
            <p:nvPr/>
          </p:nvSpPr>
          <p:spPr>
            <a:xfrm>
              <a:off x="1982880" y="3193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02 0.02589 C 0.05834 0.03167 0.07292 0.04438 0.08872 0.05155 C 0.09497 0.05432 0.10157 0.05455 0.10782 0.0571 C 0.12622 0.06449 0.14497 0.07189 0.1632 0.07975 C 0.17466 0.09015 0.18837 0.09177 0.20157 0.09686 C 0.2217 0.10448 0.24445 0.11442 0.26528 0.11951 C 0.28733 0.12483 0.30938 0.12922 0.33125 0.13638 C 0.33976 0.14401 0.34914 0.14632 0.35903 0.15072 C 0.37726 0.15904 0.3849 0.18238 0.39723 0.1988 C 0.39861 0.20458 0.40018 0.21012 0.40157 0.2159 C 0.40417 0.2263 0.41146 0.23393 0.41424 0.2441 C 0.41598 0.25058 0.41684 0.25751 0.41858 0.26398 C 0.4198 0.30444 0.42223 0.3405 0.42483 0.38003 C 0.42743 0.42071 0.43438 0.41077 0.42483 0.42256 E">
                                      <p:cBhvr>
                                        <p:cTn id="28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0.05479 C 0.02743 0.06542 0.01649 0.05733 0.0349 0.06334 C 0.03924 0.06473 0.04757 0.06889 0.04757 0.06889 C 0.05972 0.09293 0.04392 0.06542 0.05816 0.08022 C 0.06285 0.08507 0.06667 0.09154 0.07101 0.09732 C 0.08455 0.11535 0.09896 0.12992 0.11563 0.14263 C 0.11753 0.14402 0.12014 0.14402 0.12205 0.1454 C 0.13507 0.15488 0.14219 0.16205 0.15608 0.16806 C 0.16319 0.17453 0.16979 0.17476 0.17743 0.17938 C 0.18611 0.1847 0.19444 0.19071 0.20295 0.19649 C 0.2191 0.20712 0.23524 0.21591 0.25191 0.22469 C 0.26545 0.23186 0.27274 0.24064 0.28802 0.24457 C 0.2974 0.25382 0.30087 0.25405 0.31146 0.25867 C 0.32378 0.26977 0.33698 0.27925 0.34965 0.28988 C 0.35486 0.29427 0.3592 0.30028 0.36458 0.30398 C 0.36736 0.30583 0.37031 0.30768 0.37309 0.30976 C 0.37743 0.31323 0.38594 0.32109 0.38594 0.32109 C 0.39271 0.33958 0.38785 0.32941 0.40295 0.34952 C 0.4158 0.36662 0.42083 0.39459 0.42413 0.41748 C 0.42205 0.48151 0.42205 0.45886 0.42205 0.48544 E">
                                      <p:cBhvr>
                                        <p:cTn id="3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94 0.05756 C 0.01336 0.08276 0.01076 0.06866 0.01336 0.1001 C 0.01215 0.14656 0.0118 0.18817 0.00694 0.23324 C 0.00468 0.25336 0.00503 0.27855 -0.00365 0.29543 C -0.0066 0.30745 -0.00782 0.31831 -0.01216 0.32964 C -0.01285 0.33311 -0.01285 0.3375 -0.01424 0.34097 C -0.01719 0.3479 -0.02483 0.36084 -0.02483 0.36084 C -0.02761 0.37495 -0.0316 0.3872 -0.03559 0.40037 C -0.04323 0.4258 -0.03577 0.40962 -0.0441 0.4258 C -0.04983 0.44915 -0.05851 0.451 -0.06754 0.46833 C -0.07379 0.49422 -0.09497 0.50902 -0.11007 0.52497 C -0.1132 0.5282 -0.11563 0.53283 -0.11858 0.5363 C -0.13004 0.5497 -0.14375 0.55849 -0.15469 0.57328 C -0.15712 0.57652 -0.15834 0.58137 -0.16111 0.58461 C -0.16354 0.58715 -0.16684 0.58784 -0.16962 0.59016 C -0.17188 0.59177 -0.17414 0.59362 -0.17604 0.59593 C -0.18351 0.60472 -0.19011 0.61466 -0.19723 0.62391 C -0.19966 0.62737 -0.2033 0.62922 -0.20573 0.63269 C -0.21146 0.64032 -0.20955 0.64379 -0.21424 0.65257 C -0.21598 0.65557 -0.21875 0.65789 -0.22066 0.66112 C -0.22552 0.66898 -0.22587 0.67938 -0.23125 0.68632 C -0.23438 0.69048 -0.24219 0.69695 -0.24618 0.70042 C -0.25174 0.7233 -0.24341 0.69695 -0.25469 0.71198 C -0.25625 0.71383 -0.25573 0.71799 -0.25677 0.7203 C -0.26493 0.74018 -0.26754 0.73532 -0.26754 0.75705 E">
                                      <p:cBhvr>
                                        <p:cTn id="3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2 0.06079 C 0.00798 0.07952 0.00781 0.10726 0.00069 0.12575 C -0.00504 0.14101 -0.01129 0.15025 -0.02066 0.16273 C -0.02361 0.16666 -0.02414 0.17291 -0.02709 0.17684 C -0.03212 0.18354 -0.03837 0.18816 -0.0441 0.19394 C -0.05348 0.20342 -0.06025 0.21729 -0.0717 0.22214 C -0.08091 0.23439 -0.08368 0.23162 -0.09514 0.23925 C -0.1092 0.24849 -0.09323 0.24202 -0.11007 0.24757 C -0.12865 0.26629 -0.14896 0.27947 -0.16962 0.29288 C -0.1717 0.29565 -0.17361 0.29889 -0.17604 0.30143 C -0.18073 0.30652 -0.18646 0.31021 -0.1908 0.31576 C -0.19479 0.32085 -0.1974 0.32778 -0.20157 0.33264 C -0.20625 0.33772 -0.2158 0.34027 -0.22066 0.34396 C -0.22379 0.34628 -0.22604 0.35021 -0.22917 0.35252 C -0.23559 0.35737 -0.24375 0.36015 -0.25052 0.36384 C -0.26875 0.37402 -0.28681 0.38395 -0.30573 0.39205 C -0.31684 0.40199 -0.33664 0.40314 -0.35052 0.40915 C -0.35486 0.42695 -0.35469 0.42002 -0.35469 0.42903 E">
                                      <p:cBhvr>
                                        <p:cTn id="40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a_rmuhvz[1]"/>
          <p:cNvPicPr/>
          <p:nvPr/>
        </p:nvPicPr>
        <p:blipFill>
          <a:blip r:embed="rId1"/>
          <a:stretch/>
        </p:blipFill>
        <p:spPr>
          <a:xfrm>
            <a:off x="1219320" y="1447920"/>
            <a:ext cx="6781680" cy="5294160"/>
          </a:xfrm>
          <a:prstGeom prst="rect">
            <a:avLst/>
          </a:prstGeom>
          <a:ln w="0">
            <a:noFill/>
          </a:ln>
        </p:spPr>
      </p:pic>
      <p:sp>
        <p:nvSpPr>
          <p:cNvPr id="192" name="Line 5"/>
          <p:cNvSpPr/>
          <p:nvPr/>
        </p:nvSpPr>
        <p:spPr>
          <a:xfrm>
            <a:off x="2209680" y="358128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2209680" y="4114800"/>
            <a:ext cx="563904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7"/>
          <p:cNvSpPr/>
          <p:nvPr/>
        </p:nvSpPr>
        <p:spPr>
          <a:xfrm>
            <a:off x="2209680" y="480060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2286000" y="5410080"/>
            <a:ext cx="556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2362320" y="6019920"/>
            <a:ext cx="5486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3505320" y="5410080"/>
            <a:ext cx="685800" cy="619200"/>
            <a:chOff x="3505320" y="5410080"/>
            <a:chExt cx="685800" cy="619200"/>
          </a:xfrm>
        </p:grpSpPr>
        <p:pic>
          <p:nvPicPr>
            <p:cNvPr id="198" name="Picture 11" descr="j0339150"/>
            <p:cNvPicPr/>
            <p:nvPr/>
          </p:nvPicPr>
          <p:blipFill>
            <a:blip r:embed="rId2"/>
            <a:stretch/>
          </p:blipFill>
          <p:spPr>
            <a:xfrm>
              <a:off x="3505320" y="541008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12"/>
            <p:cNvSpPr/>
            <p:nvPr/>
          </p:nvSpPr>
          <p:spPr>
            <a:xfrm>
              <a:off x="3657600" y="556272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3"/>
            <p:cNvSpPr/>
            <p:nvPr/>
          </p:nvSpPr>
          <p:spPr>
            <a:xfrm>
              <a:off x="3659760" y="5500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4"/>
          <p:cNvGrpSpPr/>
          <p:nvPr/>
        </p:nvGrpSpPr>
        <p:grpSpPr>
          <a:xfrm>
            <a:off x="4267080" y="4800600"/>
            <a:ext cx="685800" cy="619200"/>
            <a:chOff x="4267080" y="4800600"/>
            <a:chExt cx="685800" cy="619200"/>
          </a:xfrm>
        </p:grpSpPr>
        <p:pic>
          <p:nvPicPr>
            <p:cNvPr id="202" name="Picture 15" descr="j0339150"/>
            <p:cNvPicPr/>
            <p:nvPr/>
          </p:nvPicPr>
          <p:blipFill>
            <a:blip r:embed="rId3"/>
            <a:stretch/>
          </p:blipFill>
          <p:spPr>
            <a:xfrm>
              <a:off x="4267080" y="480060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Rectangle 16"/>
            <p:cNvSpPr/>
            <p:nvPr/>
          </p:nvSpPr>
          <p:spPr>
            <a:xfrm>
              <a:off x="4419360" y="49532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7"/>
            <p:cNvSpPr/>
            <p:nvPr/>
          </p:nvSpPr>
          <p:spPr>
            <a:xfrm>
              <a:off x="4421520" y="4891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8"/>
          <p:cNvGrpSpPr/>
          <p:nvPr/>
        </p:nvGrpSpPr>
        <p:grpSpPr>
          <a:xfrm>
            <a:off x="4952880" y="4181400"/>
            <a:ext cx="685800" cy="619200"/>
            <a:chOff x="4952880" y="4181400"/>
            <a:chExt cx="685800" cy="619200"/>
          </a:xfrm>
        </p:grpSpPr>
        <p:pic>
          <p:nvPicPr>
            <p:cNvPr id="206" name="Picture 19" descr="j0339150"/>
            <p:cNvPicPr/>
            <p:nvPr/>
          </p:nvPicPr>
          <p:blipFill>
            <a:blip r:embed="rId4"/>
            <a:stretch/>
          </p:blipFill>
          <p:spPr>
            <a:xfrm>
              <a:off x="4952880" y="418140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Rectangle 20"/>
            <p:cNvSpPr/>
            <p:nvPr/>
          </p:nvSpPr>
          <p:spPr>
            <a:xfrm>
              <a:off x="5105160" y="43340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1"/>
            <p:cNvSpPr/>
            <p:nvPr/>
          </p:nvSpPr>
          <p:spPr>
            <a:xfrm>
              <a:off x="5107320" y="4272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2"/>
          <p:cNvGrpSpPr/>
          <p:nvPr/>
        </p:nvGrpSpPr>
        <p:grpSpPr>
          <a:xfrm>
            <a:off x="5638680" y="3571920"/>
            <a:ext cx="685800" cy="619200"/>
            <a:chOff x="5638680" y="3571920"/>
            <a:chExt cx="685800" cy="619200"/>
          </a:xfrm>
        </p:grpSpPr>
        <p:pic>
          <p:nvPicPr>
            <p:cNvPr id="210" name="Picture 23" descr="j0339150"/>
            <p:cNvPicPr/>
            <p:nvPr/>
          </p:nvPicPr>
          <p:blipFill>
            <a:blip r:embed="rId5"/>
            <a:stretch/>
          </p:blipFill>
          <p:spPr>
            <a:xfrm>
              <a:off x="5638680" y="3571920"/>
              <a:ext cx="685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Rectangle 24"/>
            <p:cNvSpPr/>
            <p:nvPr/>
          </p:nvSpPr>
          <p:spPr>
            <a:xfrm>
              <a:off x="5790960" y="372456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5"/>
            <p:cNvSpPr/>
            <p:nvPr/>
          </p:nvSpPr>
          <p:spPr>
            <a:xfrm>
              <a:off x="5792760" y="3662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26"/>
          <p:cNvSpPr/>
          <p:nvPr/>
        </p:nvSpPr>
        <p:spPr>
          <a:xfrm>
            <a:off x="1674360" y="135000"/>
            <a:ext cx="58622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ester"/>
              </a:rPr>
              <a:t>What word do the stores spell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ester"/>
              </a:rPr>
              <a:t>You can remember the stores by say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Jester"/>
              </a:rPr>
              <a:t>“Face Rhymes with Space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8:50:01Z</dcterms:created>
  <dc:creator>RaeAnna Goss</dc:creator>
  <dc:description/>
  <dc:language>en-US</dc:language>
  <cp:lastModifiedBy>Allison Friedman</cp:lastModifiedBy>
  <dcterms:modified xsi:type="dcterms:W3CDTF">2008-08-31T20:07:50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05349244</vt:r8>
  </property>
  <property fmtid="{D5CDD505-2E9C-101B-9397-08002B2CF9AE}" pid="3" name="_AuthorEmail">
    <vt:lpwstr>raeannag@wcs.edu</vt:lpwstr>
  </property>
  <property fmtid="{D5CDD505-2E9C-101B-9397-08002B2CF9AE}" pid="4" name="_AuthorEmailDisplayName">
    <vt:lpwstr>RaeAnna Goss</vt:lpwstr>
  </property>
  <property fmtid="{D5CDD505-2E9C-101B-9397-08002B2CF9AE}" pid="5" name="_EmailSubject">
    <vt:lpwstr>King Treble Clef</vt:lpwstr>
  </property>
</Properties>
</file>